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C8B-4CB9-4B8E-BDCA-F43C8A13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BAD-FBBE-4EC2-87CB-0E81CA85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41A-AB26-4E14-8E46-1D3AB45F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51A-42F8-45F2-AAC3-8AAA7335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22B-105F-42D7-8144-E2695108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530-7B87-424B-87D9-7896799F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356-A3A3-4909-8219-0205B065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E9F-06A5-40F2-841E-5393A654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6A1-3595-47C8-A9AE-5DD28769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B7A-9772-4824-A3D3-719F7E76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6F7-A40D-46F8-9609-E3DEF0B9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62D-5956-435B-9171-C1673B1A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E774-EF92-43AC-A37C-3BAF54891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uraleigh  30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ective and deliberate…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, and applicable to your constituents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…fit the party mood and spirit of the project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…we definitely took notice.  You girls truly brought the house down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starting to repeat myself, but…wow!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effective. I voted for you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21:20Z</dcterms:created>
  <dc:creator>nbdoe</dc:creator>
  <dc:description/>
  <dc:language>en-US</dc:language>
  <cp:lastModifiedBy>nbdoe</cp:lastModifiedBy>
  <dcterms:modified xsi:type="dcterms:W3CDTF">2007-05-09T17:21:28Z</dcterms:modified>
  <cp:revision>1</cp:revision>
  <dc:subject/>
  <dc:title>Election 2007</dc:title>
</cp:coreProperties>
</file>